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5CC-B02B-43C4-AC89-767D1AC4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650-060A-4382-967B-08593F30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440A5-9F93-4F2A-B8FF-11256591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26BDF-AB02-4B38-95A6-8F5E1B19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B853B-A267-4D36-B22A-58CF0901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36D87-F0ED-4665-A7F0-1D3115A5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0C6F7-BC22-49C2-B0A8-06D37063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9ADF3-29B6-4C6F-8EA5-E21CD780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4806B-54AE-4D47-8994-A7CA3083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45BEF-6CFD-4C60-A65C-D0369A49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C019E-6140-403E-BEA1-88C8A5FD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BDD02-3662-4AAF-9EF9-FF454955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C2E-95F0-4AAC-9E3A-FEA2625E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2D179-1780-46F7-96D7-5F49ACA3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D8513-A773-4DC3-9164-C4D891E2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743BC-066D-44DA-9D52-D8E093FD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56264-7B12-418D-AF52-906A3FD1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97454-1282-477F-8253-6910FC6F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3C0BB-F664-4919-8768-BF5BCA17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411AE-4360-4D66-B5C8-F9C42ABC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FF27E-3517-4810-B2FF-E155CD31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3F7E3-81AB-42CF-84AC-11EC5D13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71A77-6547-4505-9E40-80CF3F3F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F9F-035D-4FBE-84F3-18F94355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216D6-C64B-4E53-8FED-F6AA17F1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34E63-27A5-47A1-ABB0-53153657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DBDE2-08CD-4B51-9044-4C315DAF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32FAF-B0F0-493C-AD4C-AA54DDCD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9C7E1-6014-4A95-98F1-27B5865B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3FB04-E95D-4639-9FC6-7E29FE3B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9CFBC-94D6-456B-BB10-796FBBB4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0F1AE-57B9-438C-8230-F689E261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E8440-8C53-4D85-A184-645FA787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30694-4F4F-4B61-8304-68706443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BA29-9565-4FD2-B0B4-BBFA3EED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0FB4A-4D9A-4C36-8D28-7819395F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6AD5A-157A-4168-9608-30C1D929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2F3E6-191F-402D-A9AF-3223BD42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9DF73-8543-4ED5-95F8-5FA64973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3FB6E-3860-4F36-9E36-D0F23521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8628B-CA3D-41F7-8B30-6F1C265F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C9AD3-F4B6-4CEF-ABFE-24FBE869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B3D22-0A0F-4B93-9662-1A035773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90890-A61A-425D-B540-9A70B1B0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7FE35-60D7-4770-A35C-14796067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4ED0-9C48-467B-A315-6BAB9E30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8EF8D-F7FC-4B67-98D9-58048F86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3E1FD-77D9-432F-8B24-F6D2D971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F3966-25D6-49F1-94DC-925B02B7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D3450-C386-4767-92EA-DB89CF8B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9C811-78F3-4C3C-A329-5D0D4DED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2C90-7EB9-4346-A205-4F90312F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D637-4134-4F12-9E45-E06FD2A4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C827-6506-444D-884D-EF2F3631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E562-6BDC-432B-9ED0-B43CDCCA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5F19-DB7C-41D5-AC62-FF1B532A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7D9-39DD-4B9A-9A52-C6C7BD0C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4546-C0CD-415E-A3FB-8075F7C5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1C7F-8A2B-4122-973A-67B58B25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FCEA-CFB1-4200-9989-EC8E086D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8958-0ACF-4D6D-97C5-B09CC345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4990-2784-4F9E-92C6-E9DCD128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5B698-F6F8-4C10-9CD4-574E2937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A7A5-6640-4AEE-A239-F8040435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63BCC-14E2-4A7E-B6B4-E5E2E63B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029B8-40D1-42B8-ADA6-02102AAB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B33C-C57B-4CC4-AF5D-73CB87F2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A03-949E-4AE2-BAD1-5701B02D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9520A-2B77-4C00-A983-4A18E799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C82FC-F128-45AE-B0A1-BEA965FF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9B033-1F8D-47DA-B0C5-44292E1F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84E0-D8FD-40A3-B510-4957EF7B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773DC-5E7D-49F0-A1B3-CF566A02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03296-E1C9-4836-93A8-3A189F8E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B03A4-7BEA-4531-98E1-22899CEE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92E5-BC9C-4343-8D9A-E966E55B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E39CB-DDCC-4AD9-AE31-69BA204E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BDB9E-F1F4-4F8D-9EA2-BC408A60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940-5DB7-48A0-8BD4-09BF526E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04C16-C758-44CD-96AC-067242A7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1CC7A-7EFF-4BB6-8AFC-CEEDF309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1E846-9CBA-4B01-B065-1ECDAC01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2FB74-B07C-4625-9D39-4ACCCBFA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799EA-E592-424B-BCD0-A4223A57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E3C8A-74A7-49AE-87F2-D564DD0A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B00D1-749A-4992-9AA5-DBCA7FC0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F9B5F-2B5B-42F1-958E-9F19F56D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763E2-0DE2-4FC8-B8EE-CD412E47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6BC24-0582-4565-9A28-A08B4174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F6C-E0C8-41BF-BF98-38C9F321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26ADA-75EC-4417-9CB5-90B4B301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E3732-D722-45B6-8958-D05E7425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F4B2B-E4DA-4789-916C-83255E0E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5B513-78C0-4577-ACEB-0E3D8434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191B0-CAD9-4078-B2CC-AF74230A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08503-9ABE-4795-ACAE-401CE5F3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49F45-04AB-4BAB-A7A6-B1BA5DAD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BCF54-FEA5-44F5-BB7B-1522CD35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58224-8975-4816-9FA2-5AA9AB94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0A75D-6DBB-4620-B2E9-8E62F29E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25F-2838-4E34-BFA4-B467EF9C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7987B-FDC0-462D-91EE-A6E30BD4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7BE8C-DDE8-4CBC-8496-847780BA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04FF9-9058-40BD-AC49-39D80F87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0AFB4-FB12-4FE1-B036-69D71809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7D320-5CCE-4398-9D69-05AD9BA2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6A423-2160-4DBC-98ED-BD29FCFE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585E8-822D-4DAF-AF95-54DF6140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6780A-89BA-4169-95E0-B5E81E1C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61C4-FCD4-4EBA-886A-37A3B6CC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3644B-6587-4551-8CB1-FAF289F2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6FF-9772-4047-88A8-D1AA9A23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DF648-760B-47A0-ADCB-8B1BA1C7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0C7E5-65D7-4556-AC28-6BF06267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FA195-CEFC-4B0A-A5BC-EB733F55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C84B6-ADBC-4428-99EE-E80855F8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1F188-A3D7-49E1-8541-9F0BC0E2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E0FE0-ECA8-4E70-9FE2-8C3E7ABB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51B4E-6141-47FE-82C7-A1C47F68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B34B3-A048-4BA1-A058-EFDB3FDB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1A19A-82A7-446A-880E-83B1DDFB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722EF-5F99-435F-BE1C-5B70B4E3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925-B8C1-4A91-AA2C-3FAD261B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D7B5F-FF5F-4047-B732-E9E29E83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35E0E-A136-4116-B71F-15625F25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02491-A9B7-4E96-8DB6-12B8AEA4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F4482-16D1-41CA-92EE-8641CD5D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EF139-1723-44D9-B8CC-75ADFCDF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9A69E-58C3-4CEC-A422-66DF526C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11819-E1A0-40D3-96F7-22B8F152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CD546-8612-4439-AD50-01FE095C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BEE5A-CEBD-4446-9B9D-C2C62EE5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75774-218A-4839-B477-FFA4487A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C3B-0135-4005-9F81-9B7A306E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E3489-771A-4029-A8EB-12C61EBC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B40EA-593D-4C69-ACEA-C6EF63C2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7D434-0FAF-490E-B9CD-35499A5C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C1768-F3FE-4F36-A098-B4DD38B3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9F8D0-7FC9-4DE6-B4C5-508D724F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D413D-2AD4-4CCA-9403-2B4AE286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E84CF-11A3-469B-97A8-BB8683D6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F144D-B5CE-4AE8-ADA7-4F0BAF65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1AC29-14A3-4E0E-9933-326F286F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21405-BBA3-4852-B179-1C2993EC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7DDD-08EF-4FA5-9045-D3A4D2EC27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BF0A-393C-470B-B910-B89BF994E0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8613-2DBD-461C-83EC-22F72AD4793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7779-A513-4CF3-A6D9-C34DA332260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A523-3119-4529-94E1-0D8ADC7E48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D9A9-EA2F-4DF3-AD56-129AAF0511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3340-241B-4D32-8E18-95491D380DF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5088-6BB8-4397-8969-61F0A0ECA22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E822-6DC8-493A-87BF-4FEF42A7FC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E1C0-F0C9-4730-B0C2-A2CAD64DF61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83EC-4F8A-470A-93CD-1C12694CC37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9F19-D9DE-496D-845B-70A01CF20ED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81 Je žriedlom vody v púš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žriedlom vody v púš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lúčom temných d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útechou pre smutný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avdou v svete lž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piesňou, je jar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krásou letných r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m všetkým je môj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riateľ a môj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mierom napriek boj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 krídla miesto pú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návratom do vla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vrúcnym stiskom rú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hviezdou svietiac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nedozernú plá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m všetkým je môj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riateľ a môj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liečivou je hudb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iesňou nádhern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dažďom smädnej pôd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dúhou farebn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cestou vedúc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äť do domova br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m všetkým je môj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riateľ a môj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5:31:34Z</dcterms:modified>
  <cp:revision>21</cp:revision>
  <dc:subject/>
  <dc:title>Je veľký náš Pán, on slávy je Kráľ Nech do všetkých strán  spev vrúcnych znie chvál.</dc:title>
</cp:coreProperties>
</file>